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3B23-DA56-4AFA-9F2F-FD740F7D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A382-C9F7-4FDB-B79C-8C8CAF99B6F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333E-2A96-461C-B787-05F06757F68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BE10-D16F-4210-AF97-09F3FBABE97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1357-65C2-4B37-8A69-C91E6CDDBF1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7CCB-ACD4-4165-9B6C-D1C7FCD772E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40E8-196A-4E4B-A903-F074A86EC98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075D-7785-41F8-9E03-D33DC737F51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73CA-F8F3-46FE-9536-9DBB08A0BE3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7D9B-0D71-4AA0-B441-E5A4A489892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E2F8-B53D-48B5-9758-242F80532CB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7628-F05E-4CA0-B435-9AFAE72F261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ABF9-6C18-4C60-AAF7-3F8F87364CB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D894-2A8C-4055-B471-2AA18CEA3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0117-563A-48A4-8525-C59A0A371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C96C-8EA2-4E5E-BFA8-9BDB4E722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7E61-5432-4A68-95AB-F59F111DD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AAB5-07A7-40CB-B5A9-CA7982BAF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7704-DE0F-403A-927B-9788EC143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465C-0C51-4213-A6FF-09863FAE7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15E4-11E8-4F10-8F8A-738A2CE0B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32A4-C44D-4189-9456-C331316C5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96BB-668C-4621-A501-62EB72ADE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4A1C-6B44-4EA7-859F-1B089D9F2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B624-4B6E-4473-A8A6-E701DD70B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BD91-8070-4051-89D0-1637512C481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E:\Cantemir 1\GM__2313.jpg"/>
          <p:cNvPicPr/>
          <p:nvPr/>
        </p:nvPicPr>
        <p:blipFill>
          <a:blip r:embed="rId1"/>
          <a:stretch/>
        </p:blipFill>
        <p:spPr>
          <a:xfrm>
            <a:off x="9360" y="3024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0120" y="411444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–Predarea în societatea cunoaşterii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5480" y="52574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rea proiectelor elevilor</a:t>
            </a:r>
            <a:endParaRPr b="0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1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125280" y="714240"/>
            <a:ext cx="1774800" cy="885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682640" y="698400"/>
            <a:ext cx="71596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Motto : </a:t>
            </a:r>
            <a:r>
              <a:rPr b="1" i="1" lang="es-ES" sz="2800" spc="-1" strike="noStrike">
                <a:solidFill>
                  <a:srgbClr val="ffff00"/>
                </a:solidFill>
                <a:latin typeface="Verdana"/>
              </a:rPr>
              <a:t>Evaluarea corectă a unei nereușite este o reușit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br>
              <a:rPr sz="24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Crearea strategiilor de evaluare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continuare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6000" y="1371240"/>
            <a:ext cx="8781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c2e86"/>
                </a:solidFill>
                <a:latin typeface="Verdana"/>
              </a:rPr>
              <a:t>La crearea (modificarea) unei evaluări aveţi în vedere</a:t>
            </a:r>
            <a:r>
              <a:rPr b="1" lang="en-US" sz="22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Rezolvaţi dvs. înşivă sarcina adresată elevi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Asiguraţi-vă că toate criteriile dvs.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conduc la atingerea obiectivelor ţinti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Limit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aţi numărul de obie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Cereţi opinia atât colegilor, dar şi elevilor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Scrieţ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ii într-un limbaj accesibil elevi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Evitaţi termenii ambig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Luaţi în calcul ordinea criteriilor dv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0391-8C4B-4B3E-A0D4-2AAB4293359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E8DA-3A56-40F0-8EB2-15235C7B7DC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3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5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Revizuirea produselor-model “ale elevilor”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1840" y="1785960"/>
            <a:ext cx="89121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1: Revederea notiţelor personale, precum şi a observaţiilor colegilor referitoare la activitatea dvs.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notiţele personale din activităţile anterioare pentru a identifica zonele care pot fi îmbunătăţit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2: Revizuirea produselor-model “ale elevilor”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TEMĂ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Revizuiţi propriul produs-mode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siguraţi-vă că aţi răspuns la toate întrebările din fiş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“ale elevilor” -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(4.19) (Mod 4 planificarea în avans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04DE-B3D9-43F9-A300-71B349353B9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2800"/>
            </a:br>
            <a:br>
              <a:rPr sz="28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4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16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zuirea 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ului unităţii de învăţare</a:t>
            </a:r>
            <a:r>
              <a:rPr b="0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5)</a:t>
            </a:r>
            <a:br>
              <a:rPr sz="16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7640" y="2045880"/>
            <a:ext cx="83214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ul u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vs.de învăţa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inaliza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Rezumatul evaluăr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Lista de verificare a planului unit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entru a vă monitoriza propriul progre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zu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produselor-model “ale elevilor”, asupra evaluării, asupra secţiuni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planul unităţ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,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pentru a depista obiectivele care încă nu sunt atins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de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lis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le dvs. referitoare la O.R./C.S.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la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ob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ectiv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, şi operaţi modificări, după cum este necesa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</a:t>
            </a:r>
            <a:r>
              <a:rPr b="1" lang="ro-RO" sz="2400" spc="-1" strike="noStrike">
                <a:solidFill>
                  <a:srgbClr val="0c2e86"/>
                </a:solidFill>
                <a:latin typeface="Arial"/>
              </a:rPr>
              <a:t>5</a:t>
            </a:r>
            <a:r>
              <a:rPr b="1" lang="ro-RO" sz="22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22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1520" y="1371600"/>
            <a:ext cx="821700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Trecerea în revistă a modulul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P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ncte chei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Evaluarea ar trebui integrată întregului proiect şi să vizeze toate scopurile propus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Evaluarea centrată pe elev ar trebui să se axeze, atât pe conţinuturi, cât şi pe abilităţile necesare în secolul XXI, şi să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define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ască conţinuturile şi deprinderile î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n contex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ul proiectulu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Tabelul de descriptori conţine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ro-RO" sz="1400" spc="-1" strike="noStrike">
                <a:solidFill>
                  <a:srgbClr val="ff0000"/>
                </a:solidFill>
                <a:latin typeface="Verdana"/>
              </a:rPr>
              <a:t>criterii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(col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oana din stânga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i="1" lang="ro-RO" sz="14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care identifică obiectivele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şi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descriptor</a:t>
            </a:r>
            <a:r>
              <a:rPr b="0" i="1" lang="ro-RO" sz="1400" spc="-1" strike="noStrike">
                <a:solidFill>
                  <a:srgbClr val="ff0000"/>
                </a:solidFill>
                <a:latin typeface="Verdana"/>
              </a:rPr>
              <a:t>ii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coloana din dreapta)</a:t>
            </a:r>
            <a:r>
              <a:rPr b="0" i="1" lang="ro-RO" sz="1400" spc="-1" strike="noStrike">
                <a:solidFill>
                  <a:srgbClr val="ff0000"/>
                </a:solidFill>
                <a:latin typeface="Verdana"/>
              </a:rPr>
              <a:t> -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care descriu nivelul de performanţă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Folosirea evaluării sumative pentru stabilirea calităţii produselor şi a performanţe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Activit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tea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5</a:t>
            </a:r>
            <a:br>
              <a:rPr sz="24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1640" y="1863360"/>
            <a:ext cx="82677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2: Consemnarea experienţei de învăţare pe blog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flectaţi, pe blog-ul personal, asupra activităţilor, deprinderilor şi abordărilor vizate de acest mod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flectaţi asupra modului în care elementul central al acestui modul v-a folosit în planificarea şi crearea unităţii dvs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um voi evalua învăţarea elevil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um voi implica elevii în procesul de evalu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veţi în vedere modul în care cunoştinţele acumulate în cadrul acestui modul vă vor influenţa predarea şi implicit, învăţarea elevilor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aceţi referire la elementele cheie ale învăţării, la eventuale întrebări şi aspecte ce mai trebuiesc lămurite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000"/>
            </a:br>
            <a:br>
              <a:rPr sz="900"/>
            </a:br>
            <a:r>
              <a:rPr b="1" lang="en-US" sz="9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Planificarea în avans a activităţii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Trecerea în revistă a propriilor produse-model “ale elevilor”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3080" y="1924200"/>
            <a:ext cx="8265960" cy="37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foldere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roduse-model “ale elevilor”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 ambele tipuri de produse personale, pe baz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scriptorilor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e la pagin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5.16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a întrebărilor de la pagina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5.18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-vă produsul-model creat, folosind instrumentul de evaluare creat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descriptor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încercuiţ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ul c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reflec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el mai bine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Continu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aţi încercuirea în funcţie de nivelul de performanţă relevat de produ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un ghid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e scor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folosiţi-l pentru scorarea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ui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Notaţi-vă orice modificare necesară, fie pentru produsul-model, fie pentru instrument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7FBF-527D-4493-83E4-63C7518CAA2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Modulul 6: Proiectarea pentru obţinerea succesului în învăţ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52400" y="1190520"/>
          <a:ext cx="7405920" cy="4300560"/>
        </p:xfrm>
        <a:graphic>
          <a:graphicData uri="http://schemas.openxmlformats.org/drawingml/2006/table">
            <a:tbl>
              <a:tblPr/>
              <a:tblGrid>
                <a:gridCol w="2368800"/>
                <a:gridCol w="5037120"/>
              </a:tblGrid>
              <a:tr h="430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ul central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Sprijinirea elevului şi stimularea autonomiei în învăţ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trateg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nstru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diferen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a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nei evaluări pentru stimula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nomiei elevului în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material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port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lan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ui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Unit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ţii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a includ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e de susţinere a învăţării pentru toţi elev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blog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c2e86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D:\danav\logo SVC\2007-03-05LogoSIVECO15aniCertif_Ro.jpg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E900-9C6B-4089-9367-6A02282C7AB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6" descr="_x0014_white-slideCraig.png                                           000009C9_x0008_PROJECTS                       00000000: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1CFE-B82E-4913-8092-39ABF499031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Picture 15" descr="D:\danav\Poze\2007-06 (iun.)-17\IM000069.JPG"/>
          <p:cNvPicPr/>
          <p:nvPr/>
        </p:nvPicPr>
        <p:blipFill>
          <a:blip r:embed="rId1"/>
          <a:stretch/>
        </p:blipFill>
        <p:spPr>
          <a:xfrm>
            <a:off x="4741920" y="1654200"/>
            <a:ext cx="4437000" cy="2925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885960"/>
            <a:ext cx="42670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evilor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3200" y="5370480"/>
            <a:ext cx="809964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203040"/>
            <a:ext cx="44416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  <a:ea typeface="Times New Roman"/>
              </a:rPr>
              <a:t>Unde ne află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1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edarea prin proiec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a bazată pe proiect şi designul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nităţi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2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propriei u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it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generatoare ale unităţii de învăţare şi evaluarea continuă centrată pe ele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3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lizarea conexiun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net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ca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port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 predării şi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4: Cre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 unor </a:t>
            </a:r>
            <a:br>
              <a:rPr sz="1600"/>
            </a:b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-mode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e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l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levilor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(pre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nt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public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ţi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wiki, blog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AC36-BAA8-4903-8899-E210FD979A9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1480" y="4432320"/>
            <a:ext cx="8607240" cy="16113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area esenţial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se poate folosi, efectiv, tehnologia informaţie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entru a sprijini şi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ările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implica elevii în proces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1840" y="542880"/>
          <a:ext cx="8607240" cy="3886200"/>
        </p:xfrm>
        <a:graphic>
          <a:graphicData uri="http://schemas.openxmlformats.org/drawingml/2006/table">
            <a:tbl>
              <a:tblPr/>
              <a:tblGrid>
                <a:gridCol w="2535120"/>
                <a:gridCol w="6072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rea proiectelor elevi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valuarea formativă şi sumativ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a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Ob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ine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feedback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în scopul îmbunătăţirii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el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alităţilor de implicare a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evaluarea practicilor curente de evaluare folosite de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lizarea unui prim rezumat al evaluării pentru unitatea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 unei evaluăr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-model pentru elevi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duselor-model pentru elevi, pe baza evaluări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priului plan al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8ACE-AE69-46E7-92EF-87FDF875906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1036"/>
          <p:cNvSpPr/>
          <p:nvPr/>
        </p:nvSpPr>
        <p:spPr>
          <a:xfrm>
            <a:off x="174600" y="285840"/>
            <a:ext cx="8461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Către ce ne îndreptă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1037"/>
          <p:cNvSpPr/>
          <p:nvPr/>
        </p:nvSpPr>
        <p:spPr>
          <a:xfrm>
            <a:off x="203040" y="1509840"/>
            <a:ext cx="4456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6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entru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cces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în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e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timularea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utonomi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i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î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7: Facilit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cesului de predare –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-evaluare prin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mediul t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hnolog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ei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formaţie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facilitat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Prezentarea portofoliilor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Discutarea rezultatelor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769ed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769ed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Picture 1043" descr="E:\Cantemir 1\GM__2346.jpg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260280" y="4092480"/>
            <a:ext cx="43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7D4B-8B01-4B93-AC13-ED4E08CF51C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659480" y="272880"/>
            <a:ext cx="4484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732200" y="2379600"/>
            <a:ext cx="441180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6" descr="E:\Cantemir 1\GM__2186.jpg"/>
          <p:cNvPicPr/>
          <p:nvPr/>
        </p:nvPicPr>
        <p:blipFill>
          <a:blip r:embed="rId1"/>
          <a:stretch/>
        </p:blipFill>
        <p:spPr>
          <a:xfrm>
            <a:off x="0" y="285840"/>
            <a:ext cx="4327560" cy="52718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489560" y="0"/>
            <a:ext cx="46544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0" lang="ro-RO" sz="11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0" lang="en-US" sz="11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valuarea proiectelor elevilor </a:t>
            </a:r>
            <a:br>
              <a:rPr sz="11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Lucru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l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 în perechi şi schimb de opini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5 min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.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rea f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eedback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-ulu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în scopul îmbunătăţirii produselor-model “ale elevilor”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(5.0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192560" y="2160720"/>
            <a:ext cx="49514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769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scutaţi cu un coleg propriul produs-model creat pentru elevi. </a:t>
            </a: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Vizualizaţi-l pe site-ul wi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http://iscbihor1na.wikispaces.com/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olicitaţi sugest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u priv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 la modul în care vă puteţi îmbunătăţi model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fiş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 “ale elevilor”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 la (4.19) (Mod 4 planificarea în avans) pentru repe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l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în discuţi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98B0-8BAD-419F-87BD-3EA2AF548A7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1680" y="272520"/>
            <a:ext cx="8301240" cy="13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Pract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i p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edagog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e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5 min)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Implicarea elevilor în procesul de evaluare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2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6640" y="1496880"/>
            <a:ext cx="83962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Împărţiţi-vă în grupur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ţi brainstormingul pentru a alcătui o listă de probleme pe care profesorul le poate întâmpina atunci când implică elevii în procesul de evaluar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Scrieţi ideile grupului pe site-ul wiki, sectiunea discuţii Modul 5 sub forma unui tabel cu două coloane – </a:t>
            </a:r>
            <a:r>
              <a:rPr b="1" lang="ro-RO" sz="2000" spc="-1" strike="noStrike">
                <a:solidFill>
                  <a:srgbClr val="ff5c00"/>
                </a:solidFill>
                <a:latin typeface="Verdana"/>
              </a:rPr>
              <a:t>Provocări şi Soluţii </a:t>
            </a:r>
            <a:r>
              <a:rPr b="1" lang="ro-RO" sz="2000" spc="-1" strike="noStrike">
                <a:solidFill>
                  <a:srgbClr val="ff0000"/>
                </a:solidFill>
                <a:latin typeface="Verdana"/>
              </a:rPr>
              <a:t>http://iscbihor1na.wikispaces.com/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Treceţi în revistă şi ideile celorlalte grupuri şi discutaţi în grupul dvs. următoarel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c2e86"/>
                </a:solidFill>
                <a:latin typeface="Verdana"/>
              </a:rPr>
              <a:t>Care dintre probleme vor fi pentru dvs. cel mai greu de depăşit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c2e86"/>
                </a:solidFill>
                <a:latin typeface="Verdana"/>
              </a:rPr>
              <a:t>Ce ar trebui să faceţi pentru a găsi rezolvări la acestea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2284-E4D6-4B48-AB70-E0E06145F94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2920" y="30132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Activitatea 1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(20 min.)</a:t>
            </a:r>
            <a:br>
              <a:rPr sz="1800"/>
            </a:br>
            <a:r>
              <a:rPr b="0" lang="ro-RO" sz="2800" spc="-1" strike="noStrike">
                <a:solidFill>
                  <a:srgbClr val="0c2e86"/>
                </a:solidFill>
                <a:latin typeface="Verdana"/>
              </a:rPr>
              <a:t>Analiza strategiilor de evaluare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6240" y="1523880"/>
            <a:ext cx="88977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Reflect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rea asupra evaluării practicate la clasă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4)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 Modulul 5 activitatea 1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tipurilor de evaluare practicate de dumneavoastră, la clasă, până în prezent. Analizaţi documentele Evaluare X de pe wik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2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: Discutarea planului evaluării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Opţional - Accesaţi Intel</a:t>
            </a:r>
            <a:r>
              <a:rPr b="0" lang="ro-RO" sz="1800" spc="-1" strike="noStrike" baseline="30000">
                <a:solidFill>
                  <a:srgbClr val="0c2e86"/>
                </a:solidFill>
                <a:latin typeface="Verdana"/>
              </a:rPr>
              <a:t>®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Education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ssessing Projects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şi descărcaţi un plan de evalua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http://educate.intel.com/ro/assessingprojects/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Notaţi ideile pe care aţi dori să le folosiţi în planul dvs. de evaluare sau în evaluarea propriuzis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scutaţi întrebările (5.06) Modulul 5 activitatea 1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60CA-6819-45C0-8BD5-17DFB316E36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2680" y="2872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oră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ş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4240" y="1625760"/>
            <a:ext cx="8969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Foc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liza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priul p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 de evaluar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ul unităţii de învăţare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revizuiţi-vă schiţa de la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Planificarea evaluării – Grafic de tim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tilizaţi fişierul </a:t>
            </a:r>
            <a:r>
              <a:rPr b="1" i="1" lang="ro-RO" sz="1800" spc="-1" strike="noStrike" u="sng">
                <a:solidFill>
                  <a:srgbClr val="0c2e86"/>
                </a:solidFill>
                <a:uFillTx/>
                <a:latin typeface="Verdana"/>
              </a:rPr>
              <a:t>Planificarea evaluării elevilor</a:t>
            </a:r>
            <a:r>
              <a:rPr b="0" i="1" lang="ro-RO" sz="1800" spc="-1" strike="noStrike" u="sng">
                <a:solidFill>
                  <a:srgbClr val="0c2e86"/>
                </a:solidFill>
                <a:uFillTx/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– CD Modul 5/Activitatea 2 pentru a stabili şi descrie instrumentele de evaluare pe care le veţi utiliza pe parcursul unităţi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onsultaţi şi </a:t>
            </a:r>
            <a:r>
              <a:rPr b="1" i="1" lang="ro-RO" sz="1800" spc="-1" strike="noStrike">
                <a:solidFill>
                  <a:srgbClr val="c00000"/>
                </a:solidFill>
                <a:latin typeface="Verdana"/>
              </a:rPr>
              <a:t>Planul de evaluare</a:t>
            </a:r>
            <a:r>
              <a:rPr b="0" i="1" lang="ro-RO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activitatea anterioară la care aţi adăugat propriile notiţ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alvaţi  şi utilizaţi </a:t>
            </a:r>
            <a:r>
              <a:rPr b="1" lang="ro-RO" sz="1800" spc="-1" strike="noStrike">
                <a:solidFill>
                  <a:srgbClr val="c00000"/>
                </a:solidFill>
                <a:latin typeface="Verdana"/>
              </a:rPr>
              <a:t>Lista de verificare a planului evaluării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 directorul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 Portofoliu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Ad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ugaţi noi tehnici/instrumente de evaluare în secţiune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ificarea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in p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ţii dvs. de învăţ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cepeţi lucrul l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Rezumat/Sumar evaluare din </a:t>
            </a:r>
            <a:r>
              <a:rPr b="1" lang="ro-RO" sz="1800" spc="-1" strike="noStrike">
                <a:solidFill>
                  <a:srgbClr val="c00000"/>
                </a:solidFill>
                <a:latin typeface="Verdana"/>
              </a:rPr>
              <a:t>Planul Unităţi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A432-78BA-42E2-9042-9B48307EDE3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3880" y="29520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Activitatea 2</a:t>
            </a:r>
            <a:br>
              <a:rPr sz="2800"/>
            </a:b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8640" y="1390680"/>
            <a:ext cx="8955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roiectarea evaluării produselor-model ale “elevilor”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0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9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roiectaţ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o evaluare sumativă destinată produselor-model “ale elevilor”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întrebările de la paginile </a:t>
            </a:r>
            <a:r>
              <a:rPr b="1" lang="fr-FR" sz="1800" spc="-1" strike="noStrike">
                <a:solidFill>
                  <a:srgbClr val="0c2e86"/>
                </a:solidFill>
                <a:latin typeface="Verdana"/>
              </a:rPr>
              <a:t>5.09 – 5.10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entru a identifica obiectivele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aplicaţiei elevului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3: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rearea unei evaluări a produselor-model “ale elevilor”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11–5.13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 funcţie de obiectivele identificate la pasul anterior (TEMA) realizaţi un instrument de evaluare a produsului elevului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OPŢIONAL Treceţi în revistă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informaţia din 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aplica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ţia Assessing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Projec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Folosiţi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aplica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ţ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Assessing Projects 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pentru a crea o evaluare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00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Vizitaţi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: http://educate.intel.com/ro/assessingprojects/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00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Faceţi c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lic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 pe tasta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c2e86"/>
                </a:solidFill>
                <a:latin typeface="Verdana"/>
              </a:rPr>
              <a:t>Enter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00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Înregistraţi-vă dacă sunteţi nou venit pe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si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ARDELEAN NORIN</cp:lastModifiedBy>
  <cp:lastPrinted>2006-11-14T00:45:04Z</cp:lastPrinted>
  <dcterms:modified xsi:type="dcterms:W3CDTF">2010-12-16T02:53:49Z</dcterms:modified>
  <cp:revision>376</cp:revision>
  <dc:subject/>
  <dc:title>Presentation Title Goes Here</dc:title>
</cp:coreProperties>
</file>